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CF1-DD75-4DE0-869D-E9E48A62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3E5-0681-4B1A-981F-1C89DB23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B9D-822E-4D90-AC8F-F4DEFA30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F92-A0BC-47E7-BC1D-41500DC4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E44D-51DF-412A-98F9-4CD49E41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E81F-1C33-49BE-A212-C59F8EE0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9E41-122C-46DD-AF1D-7D6F2F22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07AF-3479-41EC-93E8-5B5F55DC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DCB3-5A69-4955-9F3E-97DDFF0D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8AB1-5C2B-401A-A5D5-C9EB5E28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D234-D11B-4556-B284-C7F844B9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B6C-0B60-47DB-BD2A-B4C63FF9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A28E-2FE5-4A5D-B327-F8CD5767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D960-99E1-4132-88F1-EE48937D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90B9-AB96-4766-89E9-9C67ABBA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AF34-8EED-4AE3-AEC3-9B052782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55FF-E4F8-45CF-BE41-7DAA5856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C71-1379-47E8-90B2-5BA7A4D9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015-FB15-4EB4-8BCE-FA362455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049-8AC4-4F70-96C8-9C241C6A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984-1CDF-42C8-8C1B-E0440050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3B3-6DF8-4FF4-B6F5-BEE3B053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E84-D50E-4EA8-A895-90C718C7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688-E72D-4567-A889-5C711F92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B38C-D8F5-4D5A-8A04-7075AB22224D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62fa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3262fa"/>
                </a:solidFill>
                <a:latin typeface="Tahoma"/>
              </a:rPr>
              <a:t>EBMWT.EMRC                                                A.SOLTANI                                                           TUMS </a:t>
            </a: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BE52-8CCC-4084-BC49-D1D8C069D2A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ltaniebm.com/" TargetMode="External"/><Relationship Id="rId2" Type="http://schemas.openxmlformats.org/officeDocument/2006/relationships/hyperlink" Target="http://www.ebm.ir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8930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ow to Decide on the Applicability of Clinical Trials Results to Your  Patient 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6840" y="60480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869000"/>
            <a:ext cx="640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kbar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ltani. MD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MS, Endocrinolog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hran University of Medical Sciences (TUM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docrine and Metabolism Research Center (E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idence-Based Medicine Research Center (EB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iati Hospita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33"/>
                </a:solidFill>
                <a:uFillTx/>
                <a:latin typeface="Arial Unicode MS"/>
                <a:ea typeface="Arial Unicode MS"/>
                <a:hlinkClick r:id="rId1"/>
              </a:rPr>
              <a:t>www.soltaniebm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33"/>
                </a:solidFill>
                <a:uFillTx/>
                <a:latin typeface="Arial Unicode MS"/>
                <a:ea typeface="Arial Unicode MS"/>
                <a:hlinkClick r:id="rId2"/>
              </a:rPr>
              <a:t>www.ebm.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120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121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8534520" y="228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.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 Are there important differences in patient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complian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that may diminish the treatment respon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complianc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riability in compliance between populations may stem 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a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source  limitations in a particular sett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b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Less obvious attitudinal or behavioral idiosyncrasi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.complianc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S ABOUT 10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T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BOUT 50% PERCENT IN GENERAL POPULATION VS 90% RESEARCH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TH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ENDRONAT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complianc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ither indigent patients nor their society may be able to afford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eated clinic visit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tests for treatment monitor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52280"/>
            <a:ext cx="91440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Times New Roman"/>
              </a:rPr>
              <a:t>Probability of adverse events that have not yet occurred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4382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965160"/>
            <a:ext cx="906768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More than 10% of FDA approved have serious side effects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Times New Roman"/>
              </a:rPr>
              <a:t>Rule of thre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Probability of event not occurring = 1-risk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Probability of event not occurring in  </a:t>
            </a:r>
            <a:r>
              <a:rPr b="1" i="1" lang="en-US" sz="2700" spc="-1" strike="noStrike">
                <a:solidFill>
                  <a:srgbClr val="1fffff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patiant = (1-risk )^ 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(1- maxrisk ) ^ n = 0.05                   1- maxrisk =(0.05)^(1/n)     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1-maxrisk = 1-3/n                            Maxrisk = 3/n  ; n &gt; 30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95% confident of adverse event  = 0/n – 3/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140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141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 Are there important differences in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rovider complianc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that may diminish the safety and efficacy of the treat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.provider complianc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al conditions in a health care center, access to equipment, technologic expertise, and availability and skill of health personnel may influence treatment effectiven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Monitoring in two centers (BM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Precision IRAN Vs USA Vs research?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Repeated BMD ( every year 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troduction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clinicians look more often t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guide their clinical care, they must decide how t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CT results to individual patients in their practice set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  whether there are compell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s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y the results should not be applied to the patient. A compelling reason usuall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n'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f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.provider complianc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less-industrialized countries many hospitals and clinics d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 have easy access to sophisticated equip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problems of provider compliance are therefore comm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, while rheumatic atrial fibrillation remains a common problem in Asian countries, very few laboratories in rural areas perform the tests necessary for titration of warfarin do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152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153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480" y="1981080"/>
            <a:ext cx="8915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5. Do my patients have </a:t>
            </a:r>
            <a:r>
              <a:rPr b="1" lang="en-US" sz="3200" spc="-1" strike="noStrike">
                <a:solidFill>
                  <a:srgbClr val="ff0033"/>
                </a:solidFill>
                <a:latin typeface="Verdana"/>
              </a:rPr>
              <a:t>co-morbid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conditions that significantly alter the potential benefits and risks of treat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5.co-morbid conditions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esence of other conditions in a particular locality may affect treatment efficiency in two possible way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competing diagnostic pos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competing etiologies of outc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.co-morbid condi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ng causes of target events may also affect the magnitude of benefi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ample comes from the management of acut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yocardial infar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some Filipino hospita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Philippine study, non-cardiac causes (mostl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neumon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sepsis) were responsible for 11 of the 30 deaths. Streptokinase will not reduce mortality in such pati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equat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tibio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verage may result in a greater (and more economical) reduction in mortality for patients who develop pneumoni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.co-morbid condi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:BMD f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c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CH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ver dise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165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166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480" y="1600200"/>
            <a:ext cx="8915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. Are there important differences in </a:t>
            </a:r>
            <a:r>
              <a:rPr b="1" lang="en-US" sz="3200" spc="-1" strike="noStrike">
                <a:solidFill>
                  <a:srgbClr val="ff0033"/>
                </a:solidFill>
                <a:latin typeface="Verdana"/>
              </a:rPr>
              <a:t>untreated patients' risk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of adverse outcomes that might alter the efficiency of treat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7480" y="44280"/>
            <a:ext cx="860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ge-specific incidence rates for Hip , Vertebr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d distal Forearm fractures in men and wo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4735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" y="633420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Cooper C &amp; Melton L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85080" y="62373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R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.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9080" y="5203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10160" y="522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21280" y="522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5203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75800" y="1187280"/>
            <a:ext cx="55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33"/>
                </a:solidFill>
                <a:latin typeface="Tahoma"/>
              </a:rPr>
              <a:t>EXAMPLE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96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97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45600" y="455760"/>
            <a:ext cx="51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Risk of Fra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74280" y="1924200"/>
            <a:ext cx="4970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n 50 years old 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Times New Roman"/>
              </a:rPr>
              <a:t>Women 40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Times New Roman"/>
              </a:rPr>
              <a:t>Men 13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02360" y="14400"/>
            <a:ext cx="7527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Risk of Fracture in Ir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(In more than 50 years old popul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71680"/>
            <a:ext cx="914400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ran population in 1381:                            65,540,2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 – 95 and more = 11.5% =                        </a:t>
            </a:r>
            <a:r>
              <a:rPr b="0" lang="en-US" sz="2400" spc="-1" strike="noStrike">
                <a:solidFill>
                  <a:srgbClr val="ff0033"/>
                </a:solidFill>
                <a:latin typeface="Tahoma"/>
              </a:rPr>
              <a:t>7,497,8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9% = 3,673,9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isk of Fracture=40 /100 =  1,469,5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&gt; 50 (at risk) = </a:t>
            </a:r>
            <a:r>
              <a:rPr b="0" lang="en-US" sz="2400" spc="-1" strike="noStrike">
                <a:solidFill>
                  <a:srgbClr val="ff0033"/>
                </a:solidFill>
                <a:latin typeface="Tahoma"/>
              </a:rPr>
              <a:t>1,469,56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+  573,581 =  2,043,1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,043,1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309600"/>
            <a:ext cx="8686800" cy="64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Three common forms of ra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rude or unadjusted  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cases occurring in the total  observed popul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Crude birth rate, crude death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ecific or stratified rat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es that are specific for age and sex are most likely true difference in disease risk between 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sex-specific, age-specific, race-spe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djusted or standardized rates: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the frequency of the disease varies by both age and sex , there are 20 or more rates for compa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age-adju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.untreated patients' risk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LFP IN IRAN Vs 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 ADJUSTMENT FOR FRAC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PROBABILITY OF FRACTURE IN 50/Y OLD WOMEN? IS IT REALLY 40%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6.untreated patients' risk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:MORTALITY FROM CAD AMONG JAPAN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OF 100000 AND IN IRLAND 414 IN 100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:RR OF FRACTURE PER SD IN ASIAN VS WH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9480" y="76320"/>
            <a:ext cx="8534520" cy="71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.untreated patients' risk?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X trial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ER = 6 %  Age =70 +  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ER = 3 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RR = CER – EER = 3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NT = 1/ARR = 1/ 0.03 = 3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CER = 1/1000  Age = 55 + 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EER = 1/20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RR=1/1000-1/2000=1/20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NNT = 1/ARR= 20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1523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42670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guide number 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Differences  in disease pathophysiology do not always mean that applicability is limited. Management of a cataract, for instance, will probably be the same regardless of the cau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guide number 2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Differences in treatment response can sometimes be accommodated by altering administration of a treatment (such as adjusting the dose of a drug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guide numbers 3 and 4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Education, training, provision of necessary equipment, and other attempts at optimizing compliance may address problems in patient and provider compl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guide numbers 5 and 6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For differences in co-morbid conditions or expected target event rates the clinician's response will depend on the difference observ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e in effici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ticipated (as when disea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gnosis is wor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the incidence of an adverse outcome is greater), a recommendation to treat can be more easily accep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crease in effici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n the other hand, should lead clinicians to be more cautious in accepting a treatment recommenda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answer to one or more of the Guide questions i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the differences noted ar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porta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not easily remediable, clinicians should not assume that the trial results can be readily appli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se instances, an additional RCT may be warran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 Biologic Issue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 Are there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athophysiologic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differences in the under study that may lead to a diminished treatment respon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judgement about whether to give  drug X will depend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y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the treatment ( the patients themselves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 and famil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at resources are available (usually very limited in our charity hospital sett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e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for example, the need for  repeated BMD ,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Not based on western bias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52388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Clinicians will be valued by how they “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think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” and not by what they “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know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429000"/>
            <a:ext cx="757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304920" y="19810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219320"/>
            <a:ext cx="8305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63400"/>
            <a:ext cx="91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1.Vitamin d deficiency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752480"/>
            <a:ext cx="424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2.Ca defici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15560" y="4133880"/>
            <a:ext cx="3705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phosphonate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T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de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TH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resorp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2286000"/>
            <a:ext cx="12952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895480"/>
            <a:ext cx="533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6840" y="152280"/>
            <a:ext cx="66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1.pathophysiologic differen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.pathophysiologic differences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p axis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tension in blacks, which has been observed to be relatively responsive to diuretics, and unresponsive to beta-bloc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480" y="1676520"/>
            <a:ext cx="8915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2. Are there </a:t>
            </a:r>
            <a:r>
              <a:rPr b="1" lang="en-US" sz="3600" spc="-1" strike="noStrike">
                <a:solidFill>
                  <a:srgbClr val="ff0033"/>
                </a:solidFill>
                <a:latin typeface="Verdana"/>
              </a:rPr>
              <a:t>patient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 differences that may diminish the treatment respon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iminish the treatment respons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-population differences in response to treatment may arise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differences in drug metabo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differences in immune respon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differences in environmental factors that affect drug toxicit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hyroid dysfunction from amiodarone differs in low versus high iodine environment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iminish the treatment respons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OW PEAK BONE MAS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VITAMIN D DEFICI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15:59:33Z</dcterms:created>
  <dc:creator>Akbar Soltani M.D.</dc:creator>
  <dc:description/>
  <dc:language>en-US</dc:language>
  <cp:lastModifiedBy>HR</cp:lastModifiedBy>
  <dcterms:modified xsi:type="dcterms:W3CDTF">2007-04-20T05:59:06Z</dcterms:modified>
  <cp:revision>146</cp:revision>
  <dc:subject/>
  <dc:title>APPLYING THE RESULTS TO OUR PATIENTS</dc:title>
</cp:coreProperties>
</file>